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52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54.png" ContentType="image/png"/>
  <Override PartName="/ppt/media/image14.jpeg" ContentType="image/jpeg"/>
  <Override PartName="/ppt/media/image61.gif" ContentType="image/gif"/>
  <Override PartName="/ppt/media/image15.jpeg" ContentType="image/jpeg"/>
  <Override PartName="/ppt/media/image16.jpeg" ContentType="image/jpeg"/>
  <Override PartName="/ppt/media/image60.png" ContentType="image/png"/>
  <Override PartName="/ppt/media/image29.png" ContentType="image/png"/>
  <Override PartName="/ppt/media/image23.jpeg" ContentType="image/jpeg"/>
  <Override PartName="/ppt/media/image12.png" ContentType="image/png"/>
  <Override PartName="/ppt/media/image21.gif" ContentType="image/gif"/>
  <Override PartName="/ppt/media/image24.png" ContentType="image/png"/>
  <Override PartName="/ppt/media/image59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57.png" ContentType="image/png"/>
  <Override PartName="/ppt/media/image19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8.gif" ContentType="image/gif"/>
  <Override PartName="/ppt/media/image6.gif" ContentType="image/gif"/>
  <Override PartName="/ppt/media/image9.png" ContentType="image/png"/>
  <Override PartName="/ppt/media/image39.png" ContentType="image/png"/>
  <Override PartName="/ppt/media/image49.png" ContentType="image/png"/>
  <Override PartName="/ppt/media/image46.gif" ContentType="image/gif"/>
  <Override PartName="/ppt/media/image11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48.png" ContentType="image/png"/>
  <Override PartName="/ppt/media/image45.gif" ContentType="image/gif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72D7-816E-4DFA-9A5B-6BC33CD13F58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CFAA-386A-444C-9D2A-DC17E8D3AAC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D85B-8252-48BD-A94B-083162A6A02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0749-67EA-4D75-B218-524AC7B89092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9D5-1012-47D9-ABBA-ABF8F417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5F7-1F85-469C-8D16-F7DD0DD7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6B5-F5EA-484A-8FDB-2550366B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4CE-E07F-46A5-9222-ED4924D8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6F6-337A-4AFE-8086-D396B1F8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B77-9766-498C-949E-94E54D4A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A2C-C2FC-4460-8C16-D59DE72F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10E-3F53-4715-8868-4809B07C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F8C-93F8-4DBF-B94C-B610C433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A78-0C82-49B0-8E96-1740E3C9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964-CD92-4B95-8ED4-6479BCF4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F52-8B98-4CC9-A750-BD91AF8D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0199-F38D-4942-B3BC-67D96E888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5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7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0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6.png"/><Relationship Id="rId1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296640"/>
            <a:ext cx="91440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Педсовет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«Современные подходы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 </a:t>
            </a: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в работе с одаренными детьми»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7" descr="http://sinyavka-shckol.ucoz.ru/prazdnik.png"/>
          <p:cNvPicPr/>
          <p:nvPr/>
        </p:nvPicPr>
        <p:blipFill>
          <a:blip r:embed="rId2"/>
          <a:stretch/>
        </p:blipFill>
        <p:spPr>
          <a:xfrm>
            <a:off x="357120" y="3643200"/>
            <a:ext cx="1866960" cy="2948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643120" y="5214960"/>
            <a:ext cx="52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2020-2021 учебный год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6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37584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285840" y="285840"/>
            <a:ext cx="8643960" cy="1068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Принципы обучения одарённых учащихс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824220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3" name="Схема 7" descr=""/>
          <p:cNvPicPr/>
          <p:nvPr/>
        </p:nvPicPr>
        <p:blipFill>
          <a:blip r:embed="rId2"/>
          <a:stretch/>
        </p:blipFill>
        <p:spPr>
          <a:xfrm>
            <a:off x="0" y="573120"/>
            <a:ext cx="8643960" cy="62848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428760" y="214200"/>
            <a:ext cx="850104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тратегии обучения одарённых учащихс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214200" y="642960"/>
            <a:ext cx="864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143000" y="142920"/>
            <a:ext cx="7286760" cy="94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Формы работы с одаренными детьми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357120" y="714240"/>
            <a:ext cx="8572680" cy="52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работа по индивидуальным планам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отрудничество с другими школам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роведение фестивалей творчества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ематические конкурсы, выставк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мотры художественной самодеятельност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ворческие отчеты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роведение общешкольных проектов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портивные соревнования разных уровней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радиционные Дни Наук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опытно-экспериментальные работы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еминары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ШНОУ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индивидуальные творческие задания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дистанционное обучение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28760" y="14292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Каким должен быть учитель, работающий со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пособными и одарёнными учащимися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5214960" y="1500120"/>
            <a:ext cx="3068640" cy="207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3"/>
          <a:stretch/>
        </p:blipFill>
        <p:spPr>
          <a:xfrm>
            <a:off x="4572000" y="3857760"/>
            <a:ext cx="2776680" cy="221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4"/>
          <a:stretch/>
        </p:blipFill>
        <p:spPr>
          <a:xfrm>
            <a:off x="1571760" y="1500120"/>
            <a:ext cx="2643120" cy="207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5"/>
          <a:stretch/>
        </p:blipFill>
        <p:spPr>
          <a:xfrm>
            <a:off x="1000080" y="385776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J0079114"/>
          <p:cNvPicPr/>
          <p:nvPr/>
        </p:nvPicPr>
        <p:blipFill>
          <a:blip r:embed="rId2"/>
          <a:stretch/>
        </p:blipFill>
        <p:spPr>
          <a:xfrm>
            <a:off x="380880" y="914400"/>
            <a:ext cx="2208240" cy="5029200"/>
          </a:xfrm>
          <a:prstGeom prst="rect">
            <a:avLst/>
          </a:prstGeom>
          <a:ln w="0">
            <a:noFill/>
          </a:ln>
        </p:spPr>
      </p:pic>
      <p:grpSp>
        <p:nvGrpSpPr>
          <p:cNvPr id="112" name="Рамка 9"/>
          <p:cNvGrpSpPr/>
          <p:nvPr/>
        </p:nvGrpSpPr>
        <p:grpSpPr>
          <a:xfrm>
            <a:off x="2230560" y="1182600"/>
            <a:ext cx="6827760" cy="5542200"/>
            <a:chOff x="2230560" y="1182600"/>
            <a:chExt cx="6827760" cy="5542200"/>
          </a:xfrm>
        </p:grpSpPr>
        <p:pic>
          <p:nvPicPr>
            <p:cNvPr id="113" name="Рамка 9" descr=""/>
            <p:cNvPicPr/>
            <p:nvPr/>
          </p:nvPicPr>
          <p:blipFill>
            <a:blip r:embed="rId3"/>
            <a:stretch/>
          </p:blipFill>
          <p:spPr>
            <a:xfrm>
              <a:off x="2230560" y="1182600"/>
              <a:ext cx="6827760" cy="554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963880" y="1892160"/>
              <a:ext cx="5359320" cy="40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Прямоугольник 11"/>
          <p:cNvSpPr/>
          <p:nvPr/>
        </p:nvSpPr>
        <p:spPr>
          <a:xfrm>
            <a:off x="2928960" y="1857240"/>
            <a:ext cx="557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Талантливым, способным к экспериментальной и творческой деятельности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офессионально грамот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нтеллигентным, нравственным  и эрудирован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ладеть современными  педагогическими  технологиями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меть позитивную Я- концепцию, быть целеустремленным,настойчивым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эмоционально стабиль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Умелым организатором учебно-воспитательного процесса, психологом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кругленный прямоугольник 11"/>
          <p:cNvSpPr/>
          <p:nvPr/>
        </p:nvSpPr>
        <p:spPr>
          <a:xfrm>
            <a:off x="2786040" y="214200"/>
            <a:ext cx="5357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Учитель должен быть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J0079114"/>
          <p:cNvPicPr/>
          <p:nvPr/>
        </p:nvPicPr>
        <p:blipFill>
          <a:blip r:embed="rId2"/>
          <a:stretch/>
        </p:blipFill>
        <p:spPr>
          <a:xfrm>
            <a:off x="142920" y="928800"/>
            <a:ext cx="2208240" cy="5029200"/>
          </a:xfrm>
          <a:prstGeom prst="rect">
            <a:avLst/>
          </a:prstGeom>
          <a:ln w="0">
            <a:noFill/>
          </a:ln>
        </p:spPr>
      </p:pic>
      <p:grpSp>
        <p:nvGrpSpPr>
          <p:cNvPr id="121" name="Рамка 9"/>
          <p:cNvGrpSpPr/>
          <p:nvPr/>
        </p:nvGrpSpPr>
        <p:grpSpPr>
          <a:xfrm>
            <a:off x="1871640" y="969840"/>
            <a:ext cx="7186680" cy="5827680"/>
            <a:chOff x="1871640" y="969840"/>
            <a:chExt cx="7186680" cy="5827680"/>
          </a:xfrm>
        </p:grpSpPr>
        <p:pic>
          <p:nvPicPr>
            <p:cNvPr id="122" name="Рамка 9" descr=""/>
            <p:cNvPicPr/>
            <p:nvPr/>
          </p:nvPicPr>
          <p:blipFill>
            <a:blip r:embed="rId3"/>
            <a:stretch/>
          </p:blipFill>
          <p:spPr>
            <a:xfrm>
              <a:off x="1871640" y="969840"/>
              <a:ext cx="7186680" cy="582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643120" y="1714680"/>
              <a:ext cx="56437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Прямоугольник 11"/>
          <p:cNvSpPr/>
          <p:nvPr/>
        </p:nvSpPr>
        <p:spPr>
          <a:xfrm>
            <a:off x="2928960" y="1857240"/>
            <a:ext cx="5572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Скругленный прямоугольник 11"/>
          <p:cNvSpPr/>
          <p:nvPr/>
        </p:nvSpPr>
        <p:spPr>
          <a:xfrm>
            <a:off x="2714760" y="142920"/>
            <a:ext cx="53575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Учитель должен уметь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2714760" y="1643040"/>
            <a:ext cx="6072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богащать учебные программы, т.е. обновлять и расширять содержание образовани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Работать дифференцированно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существлять  индивидуальный подход и консультировать учащихс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тимулировать познавательные  способности учащихс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инимать взвешенные  психолого-педагогические решени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Анализировать свою учебно-воспитательную деятельность и всего класса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тбирать и готовить материал для коллективных  творческих дел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785960" y="2000160"/>
            <a:ext cx="7143840" cy="56397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Результаты проведенной анкеты среди педагогов показали, что 100% учителей имеют склонности к работе  с одаренными детьми, но они требуют дополнительных ресурсов и активного саморегулирования в интеллектуальном процессе. Педагогам лишь необходим правильный выбор объекта направления творческого интереса учащихся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428760" y="21420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Анкета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«Определение склонностей педагога к работе с одарёнными детьми»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baby18"/>
          <p:cNvPicPr/>
          <p:nvPr/>
        </p:nvPicPr>
        <p:blipFill>
          <a:blip r:embed="rId2"/>
          <a:stretch/>
        </p:blipFill>
        <p:spPr>
          <a:xfrm>
            <a:off x="0" y="2928960"/>
            <a:ext cx="1673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857160" y="214200"/>
            <a:ext cx="671508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Рекомендации педагогам при работе с  одаренными обучающимися           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http://www.enoti-nperedelkino.ru/upload/iblock/2ef/jlzupa.jpg"/>
          <p:cNvPicPr/>
          <p:nvPr/>
        </p:nvPicPr>
        <p:blipFill>
          <a:blip r:embed="rId3"/>
          <a:stretch/>
        </p:blipFill>
        <p:spPr>
          <a:xfrm>
            <a:off x="7858080" y="142920"/>
            <a:ext cx="1014480" cy="1071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428760" y="1071720"/>
            <a:ext cx="8429400" cy="56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1.      Общение с одарёнными детьми требует от учителя гибкости мышления, творчества, профессионализма, позволяет чувствовать себя свободным в рамках школьной программы, предполагает творческую деятельность учителя и ученика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2.      Работа с талантливыми детьми должна быть повсеместной, начиная с особого внимания к ним на уроках, продолжая эту работу в кружках, на факультативных занятиях, а также используя индивидуально-групповые формы работы и консультации во внеурочное время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3.      В классе, с детьми разного уровня развития, важно правильно организовывать работу  с «сильными» учениками, создать такую проблемную ситуацию, чтобы включить способных учеников самостоятельный творческий поиск. На каждом уроке готовить карточки повышенной трудности с олимпиадными заданиями или упражнениями, требующими нестандартного мышления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4.      Привлекать способных творчески мыслящих учеников к сотрудничеству, предлагая им выступать в роли оппонентов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5.      Чтобы включить в творческий процесс одарённого ученика необходимо создать проблемные ситуации, пусть небольшие, но заставляющие удивляться, искать пути решения проблемы, применять имеющиеся знания в нестандартной ситуации, делать свои умозаключения. А это и есть творческий поиск, который ведёт к развитию творческого мышления. </a:t>
            </a:r>
            <a:r>
              <a:rPr b="1" i="1" lang="ru-RU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0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53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42920" y="1428840"/>
            <a:ext cx="8858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Одаренность человека - это маленький росточек, едва проклюнувшийся из земли и требующий к себе огромного внимания. Необходимо холить и лелеять, ухаживать за ним, сделать все необходимое, чтобы он вырос и дал обильный плод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В. А. Сухомлинский</a:t>
            </a:r>
            <a:r>
              <a:rPr b="0" lang="ru-RU" sz="2200" spc="-1" strike="noStrike">
                <a:solidFill>
                  <a:srgbClr val="a50021"/>
                </a:solidFill>
                <a:latin typeface="Georgia"/>
              </a:rPr>
              <a:t>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4"/>
          <p:cNvSpPr/>
          <p:nvPr/>
        </p:nvSpPr>
        <p:spPr>
          <a:xfrm>
            <a:off x="857160" y="428760"/>
            <a:ext cx="757260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Индивидуальная образовательная траектор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Схема 6" descr=""/>
          <p:cNvPicPr/>
          <p:nvPr/>
        </p:nvPicPr>
        <p:blipFill>
          <a:blip r:embed="rId3"/>
          <a:stretch/>
        </p:blipFill>
        <p:spPr>
          <a:xfrm>
            <a:off x="762120" y="2114640"/>
            <a:ext cx="78642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User\Desktop\ИОТ\IOT_0.jpg"/>
          <p:cNvPicPr/>
          <p:nvPr/>
        </p:nvPicPr>
        <p:blipFill>
          <a:blip r:embed="rId3"/>
          <a:stretch/>
        </p:blipFill>
        <p:spPr>
          <a:xfrm>
            <a:off x="357120" y="26820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User\Desktop\ИОТ\IOT_1_0.jpg"/>
          <p:cNvPicPr/>
          <p:nvPr/>
        </p:nvPicPr>
        <p:blipFill>
          <a:blip r:embed="rId3"/>
          <a:stretch/>
        </p:blipFill>
        <p:spPr>
          <a:xfrm>
            <a:off x="380880" y="28584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1357200" y="428760"/>
            <a:ext cx="65725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Направления реализации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Схема 6" descr=""/>
          <p:cNvPicPr/>
          <p:nvPr/>
        </p:nvPicPr>
        <p:blipFill>
          <a:blip r:embed="rId3"/>
          <a:stretch/>
        </p:blipFill>
        <p:spPr>
          <a:xfrm>
            <a:off x="549360" y="1212840"/>
            <a:ext cx="821664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62" name="Схема 8" descr=""/>
          <p:cNvPicPr/>
          <p:nvPr/>
        </p:nvPicPr>
        <p:blipFill>
          <a:blip r:embed="rId3"/>
          <a:stretch/>
        </p:blipFill>
        <p:spPr>
          <a:xfrm>
            <a:off x="639720" y="1200240"/>
            <a:ext cx="7864560" cy="4956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1357200" y="428760"/>
            <a:ext cx="657252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Этапы становления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4"/>
          <p:cNvSpPr/>
          <p:nvPr/>
        </p:nvSpPr>
        <p:spPr>
          <a:xfrm>
            <a:off x="1857240" y="357120"/>
            <a:ext cx="507204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Сопровождение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Схема 6" descr=""/>
          <p:cNvPicPr/>
          <p:nvPr/>
        </p:nvPicPr>
        <p:blipFill>
          <a:blip r:embed="rId3"/>
          <a:stretch/>
        </p:blipFill>
        <p:spPr>
          <a:xfrm>
            <a:off x="743040" y="1146240"/>
            <a:ext cx="795024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72" name="Схема 8" descr=""/>
          <p:cNvPicPr/>
          <p:nvPr/>
        </p:nvPicPr>
        <p:blipFill>
          <a:blip r:embed="rId3"/>
          <a:stretch/>
        </p:blipFill>
        <p:spPr>
          <a:xfrm>
            <a:off x="347760" y="1542960"/>
            <a:ext cx="8637480" cy="51022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9"/>
          <p:cNvSpPr/>
          <p:nvPr/>
        </p:nvSpPr>
        <p:spPr>
          <a:xfrm>
            <a:off x="428760" y="285840"/>
            <a:ext cx="83581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Индивидуальный образовательный маршру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1714680" y="428760"/>
            <a:ext cx="671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ИСТ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ого маршрута обучен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ИО_________________________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ника(цы) ___класса _________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 _____________________учебный год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14200" y="2428920"/>
          <a:ext cx="8642520" cy="2398680"/>
        </p:xfrm>
        <a:graphic>
          <a:graphicData uri="http://schemas.openxmlformats.org/drawingml/2006/table">
            <a:tbl>
              <a:tblPr/>
              <a:tblGrid>
                <a:gridCol w="1616040"/>
                <a:gridCol w="1194120"/>
                <a:gridCol w="1054080"/>
                <a:gridCol w="1827000"/>
                <a:gridCol w="1616040"/>
                <a:gridCol w="13352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звание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лективног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рса (9кл)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И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чите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ол-во часов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роки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хождения курс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тметка о прохождении курс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дпись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чите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Итог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178" name="Прямоугольник 8"/>
          <p:cNvSpPr/>
          <p:nvPr/>
        </p:nvSpPr>
        <p:spPr>
          <a:xfrm>
            <a:off x="357120" y="5214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м.директора по УВР____________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еник (ца)______________________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000160" y="5786280"/>
          <a:ext cx="1656000" cy="736920"/>
        </p:xfrm>
        <a:graphic>
          <a:graphicData uri="http://schemas.openxmlformats.org/drawingml/2006/table">
            <a:tbl>
              <a:tblPr/>
              <a:tblGrid>
                <a:gridCol w="1656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714240" y="67464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о-образовательный маршрут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ника(цы)______класса                       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ликвидация пробелов по предмету 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14200" y="2428920"/>
          <a:ext cx="8785440" cy="1279440"/>
        </p:xfrm>
        <a:graphic>
          <a:graphicData uri="http://schemas.openxmlformats.org/drawingml/2006/table">
            <a:tbl>
              <a:tblPr/>
              <a:tblGrid>
                <a:gridCol w="1255680"/>
                <a:gridCol w="995400"/>
                <a:gridCol w="1162080"/>
                <a:gridCol w="1379520"/>
                <a:gridCol w="943200"/>
                <a:gridCol w="1379520"/>
                <a:gridCol w="16700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ем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УН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УУН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я,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пособы работы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рок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орма контро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тметка о выполнени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84" name="Прямоугольник 7"/>
          <p:cNvSpPr/>
          <p:nvPr/>
        </p:nvSpPr>
        <p:spPr>
          <a:xfrm>
            <a:off x="500040" y="392904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знакомлены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_________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лассный руководител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87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37584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5" descr=""/>
          <p:cNvPicPr/>
          <p:nvPr/>
        </p:nvPicPr>
        <p:blipFill>
          <a:blip r:embed="rId2"/>
          <a:stretch/>
        </p:blipFill>
        <p:spPr>
          <a:xfrm>
            <a:off x="-60480" y="-6480"/>
            <a:ext cx="925992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0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53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97080" y="3643200"/>
          <a:ext cx="6549840" cy="438120"/>
        </p:xfrm>
        <a:graphic>
          <a:graphicData uri="http://schemas.openxmlformats.org/drawingml/2006/table">
            <a:tbl>
              <a:tblPr/>
              <a:tblGrid>
                <a:gridCol w="3219480"/>
                <a:gridCol w="333036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Cambria"/>
                          <a:ea typeface="Times New Roman"/>
                        </a:rPr>
                        <a:t>Положительные качеств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Cambria"/>
                          <a:ea typeface="Times New Roman"/>
                        </a:rPr>
                        <a:t>Отрицательные качеств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6"/>
          <p:cNvSpPr/>
          <p:nvPr/>
        </p:nvSpPr>
        <p:spPr>
          <a:xfrm>
            <a:off x="1285920" y="357120"/>
            <a:ext cx="72151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Cambria"/>
              </a:rPr>
              <a:t>Портрет  одаренного ребёнк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Заполните таблицу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57200" y="1714680"/>
          <a:ext cx="7072560" cy="3282840"/>
        </p:xfrm>
        <a:graphic>
          <a:graphicData uri="http://schemas.openxmlformats.org/drawingml/2006/table">
            <a:tbl>
              <a:tblPr/>
              <a:tblGrid>
                <a:gridCol w="3429000"/>
                <a:gridCol w="364356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ложительные  качеств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трицательные качеств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221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Схема 13" descr=""/>
          <p:cNvPicPr/>
          <p:nvPr/>
        </p:nvPicPr>
        <p:blipFill>
          <a:blip r:embed="rId3"/>
          <a:stretch/>
        </p:blipFill>
        <p:spPr>
          <a:xfrm>
            <a:off x="426960" y="1116000"/>
            <a:ext cx="8356680" cy="54864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4"/>
          <p:cNvSpPr/>
          <p:nvPr/>
        </p:nvSpPr>
        <p:spPr>
          <a:xfrm>
            <a:off x="285840" y="357120"/>
            <a:ext cx="8286840" cy="764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ambria"/>
              </a:rPr>
              <a:t>Пирамида одарённости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7"/>
          <p:cNvSpPr/>
          <p:nvPr/>
        </p:nvSpPr>
        <p:spPr>
          <a:xfrm>
            <a:off x="1857240" y="2000160"/>
            <a:ext cx="5715000" cy="1922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Решение задач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5786280" y="3714840"/>
            <a:ext cx="2643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1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600200"/>
          <a:ext cx="7923240" cy="4665600"/>
        </p:xfrm>
        <a:graphic>
          <a:graphicData uri="http://schemas.openxmlformats.org/drawingml/2006/table">
            <a:tbl>
              <a:tblPr/>
              <a:tblGrid>
                <a:gridCol w="2004840"/>
                <a:gridCol w="820800"/>
                <a:gridCol w="1182960"/>
                <a:gridCol w="2003400"/>
                <a:gridCol w="819000"/>
                <a:gridCol w="109224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и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ка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ки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гене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л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евский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    2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 2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3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  3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        4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    2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    2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       1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    2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1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хове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юль Вер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Винчи Л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зак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ео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ро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йн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у Б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пенгауэ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4"/>
          <p:cNvSpPr/>
          <p:nvPr/>
        </p:nvSpPr>
        <p:spPr>
          <a:xfrm>
            <a:off x="142920" y="214200"/>
            <a:ext cx="842976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Сведения о родителях выдающихся людей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0" descr="j0236488"/>
          <p:cNvPicPr/>
          <p:nvPr/>
        </p:nvPicPr>
        <p:blipFill>
          <a:blip r:embed="rId2"/>
          <a:stretch/>
        </p:blipFill>
        <p:spPr>
          <a:xfrm>
            <a:off x="0" y="5800680"/>
            <a:ext cx="885960" cy="1057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j0303418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28760" y="1143000"/>
          <a:ext cx="8501040" cy="4786200"/>
        </p:xfrm>
        <a:graphic>
          <a:graphicData uri="http://schemas.openxmlformats.org/drawingml/2006/table">
            <a:tbl>
              <a:tblPr/>
              <a:tblGrid>
                <a:gridCol w="1928520"/>
                <a:gridCol w="1071720"/>
                <a:gridCol w="1214280"/>
                <a:gridCol w="1928880"/>
                <a:gridCol w="1071720"/>
                <a:gridCol w="1285920"/>
              </a:tblGrid>
              <a:tr h="446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и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ка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ки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гене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ль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евский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1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    27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 2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3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  36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        4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    20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    24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       18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    25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1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хове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юль Вер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Винчи Л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зак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ео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ро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йне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у Б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пенгауэр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2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3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4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Схема 7" descr=""/>
          <p:cNvPicPr/>
          <p:nvPr/>
        </p:nvPicPr>
        <p:blipFill>
          <a:blip r:embed="rId2"/>
          <a:stretch/>
        </p:blipFill>
        <p:spPr>
          <a:xfrm>
            <a:off x="1023840" y="1500120"/>
            <a:ext cx="74548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7"/>
          <p:cNvSpPr/>
          <p:nvPr/>
        </p:nvSpPr>
        <p:spPr>
          <a:xfrm>
            <a:off x="1143000" y="2000160"/>
            <a:ext cx="7429680" cy="1922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РАЗБОР СИТУАЦИЙ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3"/>
          <a:stretch/>
        </p:blipFill>
        <p:spPr>
          <a:xfrm>
            <a:off x="5786280" y="3714840"/>
            <a:ext cx="2643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1" name="Схема 4" descr=""/>
          <p:cNvPicPr/>
          <p:nvPr/>
        </p:nvPicPr>
        <p:blipFill>
          <a:blip r:embed="rId2"/>
          <a:stretch/>
        </p:blipFill>
        <p:spPr>
          <a:xfrm>
            <a:off x="324000" y="0"/>
            <a:ext cx="8716680" cy="69865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3173040" y="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ЗАДАЧИ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0" y="121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1714680" y="142920"/>
            <a:ext cx="476388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Проект решения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15"/>
          <p:cNvSpPr/>
          <p:nvPr/>
        </p:nvSpPr>
        <p:spPr>
          <a:xfrm>
            <a:off x="142920" y="857160"/>
            <a:ext cx="8786880" cy="6802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1.Проводить психолого- педагогический мониторинг  учащихся в ходе учебно-воспитательного процесса 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2.Создать максимально благоприятные условия для интеллектуального  развития одаренных детей, как в учебном процессе, так и во внеурочно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3.Создать условия одаренным детям для реализации их творческих способностей в процессе научно-исследовательской и поисковой деятельности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4.Стимулировать творческую деятельность одаренных детей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5.В каждом классе выявить мнение родителей  о склонностях, области наибольшей успешности и круге интересов их ребенка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6.Оказывать квалифицированную психолого-педагогическую помощь родителям одаренных детей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7.Издать сборник методических материалов «Система работы с одаренными детьми»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8.Разработать Положение об ИОТ учащегос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9.Оказывать содействие и поощрять классных руководителей и учителей-предметников, систематически работающих с одаренными и талантливыми детьми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7"/>
          <p:cNvSpPr/>
          <p:nvPr/>
        </p:nvSpPr>
        <p:spPr>
          <a:xfrm>
            <a:off x="357120" y="214200"/>
            <a:ext cx="857268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Рефлексия «Незаконченное предложение»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Группа 8"/>
          <p:cNvGrpSpPr/>
          <p:nvPr/>
        </p:nvGrpSpPr>
        <p:grpSpPr>
          <a:xfrm>
            <a:off x="214200" y="928800"/>
            <a:ext cx="8715600" cy="5715000"/>
            <a:chOff x="214200" y="928800"/>
            <a:chExt cx="8715600" cy="5715000"/>
          </a:xfrm>
        </p:grpSpPr>
        <p:sp>
          <p:nvSpPr>
            <p:cNvPr id="248" name="Скругленный прямоугольник 9"/>
            <p:cNvSpPr/>
            <p:nvPr/>
          </p:nvSpPr>
          <p:spPr>
            <a:xfrm>
              <a:off x="214200" y="928800"/>
              <a:ext cx="8715600" cy="571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Скругленный прямоугольник 4"/>
            <p:cNvSpPr/>
            <p:nvPr/>
          </p:nvSpPr>
          <p:spPr>
            <a:xfrm>
              <a:off x="366480" y="1208160"/>
              <a:ext cx="841104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just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Прямоугольник 12"/>
          <p:cNvSpPr/>
          <p:nvPr/>
        </p:nvSpPr>
        <p:spPr>
          <a:xfrm>
            <a:off x="357120" y="1071720"/>
            <a:ext cx="864396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агогический совет состоит из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агогический совет направлен н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совет может внести вклад в развитие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совет учит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В ходе педсовета использовались способы деятельности, такие как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Мне особенно понравилось действие, в котором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Больше всего мне понравилось действие, в котором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В результате работы на педсовете я узнал (а):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о себе то, что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о своих коллегах то, что они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.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Мои пожелания на следующие педсоветы состоит в том, что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3" descr="C:\Documents and Settings\User\Рабочий стол\картинки на школьныю тему\Рисунок11.png"/>
          <p:cNvPicPr/>
          <p:nvPr/>
        </p:nvPicPr>
        <p:blipFill>
          <a:blip r:embed="rId2"/>
          <a:stretch/>
        </p:blipFill>
        <p:spPr>
          <a:xfrm>
            <a:off x="357120" y="3714840"/>
            <a:ext cx="2592360" cy="24480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5"/>
          <p:cNvSpPr/>
          <p:nvPr/>
        </p:nvSpPr>
        <p:spPr>
          <a:xfrm>
            <a:off x="357120" y="2286000"/>
            <a:ext cx="8429760" cy="1739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СПАСИБО ЗА ВНИМАНИЕ!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8" descr="08CAC4~116"/>
          <p:cNvPicPr/>
          <p:nvPr/>
        </p:nvPicPr>
        <p:blipFill>
          <a:blip r:embed="rId3"/>
          <a:stretch/>
        </p:blipFill>
        <p:spPr>
          <a:xfrm>
            <a:off x="6786720" y="214200"/>
            <a:ext cx="1989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0" y="0"/>
            <a:ext cx="932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Схема 6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9095040" cy="6400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2786040" y="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ambria"/>
              </a:rPr>
              <a:t>ПОВЕСТКА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642960" y="2718360"/>
            <a:ext cx="64292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ЭКСПЕРИМЕНТ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AG00317_"/>
          <p:cNvPicPr/>
          <p:nvPr/>
        </p:nvPicPr>
        <p:blipFill>
          <a:blip r:embed="rId2"/>
          <a:stretch/>
        </p:blipFill>
        <p:spPr>
          <a:xfrm>
            <a:off x="928800" y="3857760"/>
            <a:ext cx="1904760" cy="2095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33[2]"/>
          <p:cNvPicPr/>
          <p:nvPr/>
        </p:nvPicPr>
        <p:blipFill>
          <a:blip r:embed="rId3"/>
          <a:stretch/>
        </p:blipFill>
        <p:spPr>
          <a:xfrm>
            <a:off x="5572080" y="28584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0253f"/>
                </a:solidFill>
                <a:uFillTx/>
                <a:latin typeface="Cambria"/>
              </a:rPr>
              <a:t>ПЕРЕЧЕНЬ ЛИЧНОСТНЫХ И ДЕЛОВЫХ КАЧЕСТВ  УЧЕНИКОВ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1" i="1" lang="ru-RU" sz="2200" spc="-1" strike="noStrike">
                <a:solidFill>
                  <a:srgbClr val="c00000"/>
                </a:solidFill>
                <a:latin typeface="Cambria"/>
              </a:rPr>
              <a:t> Дисциплинир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1" i="1" lang="ru-RU" sz="2200" spc="-1" strike="noStrike">
                <a:solidFill>
                  <a:srgbClr val="0070c0"/>
                </a:solidFill>
                <a:latin typeface="Cambria"/>
              </a:rPr>
              <a:t> Неровно успевающи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3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Организ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00b050"/>
                </a:solidFill>
                <a:latin typeface="Cambria"/>
              </a:rPr>
              <a:t>Выбивающийся из общего темпа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5. </a:t>
            </a:r>
            <a:r>
              <a:rPr b="1" i="1" lang="ru-RU" sz="2200" spc="-1" strike="noStrike">
                <a:solidFill>
                  <a:srgbClr val="17375e"/>
                </a:solidFill>
                <a:latin typeface="Cambria"/>
              </a:rPr>
              <a:t>Эрудир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6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Странный в поведении, непонятны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7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Умеющий поддержать общее дело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8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984807"/>
                </a:solidFill>
                <a:latin typeface="Cambria"/>
              </a:rPr>
              <a:t>Выскакивающий на уроке с нелепыми замечаниями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9. </a:t>
            </a:r>
            <a:r>
              <a:rPr b="1" i="1" lang="ru-RU" sz="2200" spc="-1" strike="noStrike">
                <a:solidFill>
                  <a:srgbClr val="17375e"/>
                </a:solidFill>
                <a:latin typeface="Cambria"/>
              </a:rPr>
              <a:t>Стабильно успевающий (всегда хорошо учится)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0.</a:t>
            </a:r>
            <a:r>
              <a:rPr b="1" i="1" lang="ru-RU" sz="2200" spc="-1" strike="noStrike">
                <a:solidFill>
                  <a:srgbClr val="254061"/>
                </a:solidFill>
                <a:latin typeface="Cambria"/>
              </a:rPr>
              <a:t> Занятый своими делами (индивидуалист)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1. </a:t>
            </a: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Быстро, “на лету” схватывающий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2.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i="1" lang="ru-RU" sz="2200" spc="-1" strike="noStrike">
                <a:solidFill>
                  <a:srgbClr val="00b050"/>
                </a:solidFill>
                <a:latin typeface="Cambria"/>
              </a:rPr>
              <a:t>Не умеющий общаться, конфликтны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3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Общающийся легко, приятный в общении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4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4f6228"/>
                </a:solidFill>
                <a:latin typeface="Cambria"/>
              </a:rPr>
              <a:t>Иногда тугодум, иногда не может понять очевидного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5. </a:t>
            </a:r>
            <a:r>
              <a:rPr b="1" i="1" lang="ru-RU" sz="2200" spc="-1" strike="noStrike">
                <a:solidFill>
                  <a:srgbClr val="0070c0"/>
                </a:solidFill>
                <a:latin typeface="Cambria"/>
              </a:rPr>
              <a:t>Ясно, понятно для всех выражающий свои мысли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6.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i="1" lang="ru-RU" sz="2200" spc="-1" strike="noStrike">
                <a:solidFill>
                  <a:srgbClr val="c00000"/>
                </a:solidFill>
                <a:latin typeface="Cambria"/>
              </a:rPr>
              <a:t>Не всегда желающий подчиняться большинству или официальному руководителю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AG00315_"/>
          <p:cNvPicPr/>
          <p:nvPr/>
        </p:nvPicPr>
        <p:blipFill>
          <a:blip r:embed="rId2"/>
          <a:stretch/>
        </p:blipFill>
        <p:spPr>
          <a:xfrm>
            <a:off x="6572160" y="428760"/>
            <a:ext cx="2133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500040" y="609480"/>
            <a:ext cx="5143680" cy="70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mbria"/>
              </a:rPr>
              <a:t>Каких “+”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mbria"/>
              </a:rPr>
              <a:t>у Вас больше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Если чётных “+” больше, то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Cambria"/>
              </a:rPr>
              <a:t>Вы – нестандартный учитель, умеющий обнаружить, выявить, разглядеть скрытую незаурядную одарённость.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На практике такие учителя встречаются редко!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misli_html_m658e97f"/>
          <p:cNvPicPr/>
          <p:nvPr/>
        </p:nvPicPr>
        <p:blipFill>
          <a:blip r:embed="rId2"/>
          <a:stretch/>
        </p:blipFill>
        <p:spPr>
          <a:xfrm>
            <a:off x="5643720" y="1071720"/>
            <a:ext cx="3500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3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836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1:58:31Z</dcterms:created>
  <dc:creator>User</dc:creator>
  <dc:description/>
  <dc:language>en-US</dc:language>
  <cp:lastModifiedBy>Пользователь Windows</cp:lastModifiedBy>
  <dcterms:modified xsi:type="dcterms:W3CDTF">2020-12-25T07:44:59Z</dcterms:modified>
  <cp:revision>145</cp:revision>
  <dc:subject/>
  <dc:title>Слайд 1</dc:title>
</cp:coreProperties>
</file>